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hammer.wav" ContentType="audio/x-wav"/>
  <Override PartName="/ppt/media/image11.png" ContentType="image/png"/>
  <Override PartName="/ppt/media/image19.jpeg" ContentType="image/jpeg"/>
  <Override PartName="/ppt/media/type.wav" ContentType="audio/x-wav"/>
  <Override PartName="/ppt/media/image8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glass.wav" ContentType="audio/x-wav"/>
  <Override PartName="/ppt/media/image5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explode.wav" ContentType="audio/x-wav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220F-4334-481D-9EB4-01A794D846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st Lecture: 9/30/05, 2:0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rd Lecture: 10/14/05, 2:00 pm: Real World Ion-optical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th Lecture: 12/2/05, 2:00 pm: Separator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st Lecture: 9/30/05, 2:0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rd Lecture: 10/14/05, 2:00 pm: Real World Ion-optical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4th Lecture: 12/2/05, 2:00 pm: Separator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efining a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on-optic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elemen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 TRANSPORT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Q, y, F, 1, dp/p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1, 2,  3,  4, 5,   6  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nvenient “easy to use” program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r beam lines with paraxial beam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: COSY Infinity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a, y, b, l, dK, dm, dz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eeded for complex ion-optical systems including several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arge stat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ifferent mass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locities (e.g. Wien Filter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higher order correction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K = dK/K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m = dm/m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z  = dq/q = rel. charge chan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  =  px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b  =  py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 properti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p/p = rel. momentu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 = beam pulse length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entral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e: Notations in the Literature is not consistent! Sorry, neither will I be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 TRANSPORT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Q, y, F, 1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: COSY Infinity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a, y, b, l, dK, dm, dz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for complex ion-optical systems including seve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rge sta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locities (e.g. Wien Fil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corre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K = dK/K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m = dm/m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z  = dq/q = rel. charge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 =  px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 =  py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al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e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rdinat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fter element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rst ord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We are not building “random” optical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atrix elements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symmetries, e.g. mid-plan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We are not building “random” 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atrix elements = 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symmetries, e.g. mid-plane sym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ift and a Quadr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reference of TRANSPORT code and formalis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.L. Brown, F. Rothacker, D.C. Carey, and Ch. Isel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: A computer program for desig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ged particle beam transport systems, SLAC-9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. 2, UC-28 (I/A), also: CERN 80-04 Super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chrotron Division, 18 March 1980, Genev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ual plus Appendices available on Webp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tp://ftp.psi.ch/psi/transport.beam/CERN-80-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vid. C. Carey, The optics of Charged Particle Beam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87, Hardwood Academic Publ. GmbH, Chur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rift and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ough a system of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am line elem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a targ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fin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rst optic el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usually a Drif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xn  =  Rn Rn-1 … R0 x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lete system is represented b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ne Matrix  Rsystem   = 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ough a system of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eam line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n  =  Rn Rn-1 … R0 x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lete system is represented b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ne Matrix  Rsystem   = 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trix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llnik, p.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cusing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|a)         Woll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dx/dQ      physical 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(x|Q)        RAYTR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R12          TRANS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hromatic syst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16 = R26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trix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dx/dQ      physical mea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(x|Q)    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R12         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16 = R26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fining a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Ellipse Area  = p(det s)1/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e is constant for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xed energy &amp; conserva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ttention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ace charge effects occur when the particle density is high, so that particles repel each oth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arning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is is a mathematical abstraction of a beam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is your responsibility to verify it applies to your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Ellipse Area 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is constant f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ten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ning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ONE Ray Û  Ellip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ng the s Matrix representing a B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ONE Ray Û  Ellip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the s Matrix represent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The 2-dimensional case ( x, Q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Area = p(det s)1/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mittance e = det s is constan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 fixed energy &amp; conserv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Real, pos. defini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ymmetric s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-1 =  1/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22  -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-s21  s11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nverse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s-1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1  0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 0  1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1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how that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= I (Unity Matrix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-dim. Coord.vector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point in phase space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=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 = (x Q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x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Q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in Matrix not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s-1 X  = 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2: Show that Matrix notation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s equivalent to known Ellipse equ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22 x2 - 2s21 x Q + s11Q2 = 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2-dimensional case ( x, Q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Area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mittance e = det s is consta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mmetric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-1 =  1/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22  -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-s21  s11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s-1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1  0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 0  1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1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how tha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I (Unity Matrix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 = (x Q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x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Q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in Matrix not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s-1 X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2: Show that Matrix no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s equivalent to known Ellipse equ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22 x2 - 2s21 x Q + s11Q2 = 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ant-Snyder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  b   -a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-a      g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 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urant-Snyder 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  b   -a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-a      g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   e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, references, remarks (4 -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ing forces (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&amp; first order formalism (10 - 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 ellipse, emittance, examples (17 - 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ylor expansion, higher orders (26 - 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er of diagnostics (28 - 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ransport of 6-dim s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ider the 6-dim. ray vector in TRANSPORT:                        X = (x, Q, y, F, l, dp/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ay X0 from location 0 is transported by a 6 x 6 Matrix R to location 1 by:        X1 = RX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R maybe a matrix representing a complex system (3) is :             R =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lipsoid in Matrix notation (6), generized to e.g. 6-dim. using s Matrix:                X0 T s0-1 X0  =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serting Unity Matrix  I = RR-1  in equ. (6)   it follows     X0 T (RTRT-1) s0-1 (R-1 R) X0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om which we derive            (RX0)T  (Rs0 RT)-1 (RX0)  = 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equation of the new ellipsoid after transformation becomes     X1 T s1-1 X1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re                                         s1 =  Rs0 R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6-dim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Q, y, F, l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X0 from location 0 is transported by a 6 x 6 Matrix R to location 1 by:        X1 = RX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(3) is :             R =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lipsoid in Matrix notation (6), generized to e.g. 6-dim. using s Matrix:                X0 T s0-1 X0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erting Unity Matrix  I = RR-1  in equ. (6)   it follows     X0 T (RTRT-1) s0-1 (R-1 R) X0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which we derive            (RX0)T  (Rs0 RT)-1 (RX0)  = 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of the new ellipsoid after transformation becomes     X1 T s1-1 X1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                                        s1 =  Rs0 R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Drift and focusing Quadrupole,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ching of emittance and accep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Drift and focusing Quadrupole,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ching of emittance and accep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egr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grader / target increase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ttance e due to multiple scatte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ttance growth is minimal w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ader in positioned in a 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schem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of the horizontal x-Th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ack-of-the-envelop discussi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degra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egrader / target increases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due to multiple scatte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growth is minimal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grader in positioned in a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can be seen from the schema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ing of the horizontal x-Th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tuning a quadrupol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ee, p. 5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is an importa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ameter of a beam. It can be measured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(1 + s12  L/ s11 - L g) + (eL)2/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xercise 3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 the accelera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reference book s22  is printed as s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erify which is correc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¶Bz/¶x * l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Quadr.  field streng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 eff. field length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 between quadrupole an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 profile moni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ke minimum 3 measurements of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(g) and determine Emittance 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uning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e, p. 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is an impor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(1 + s12  L/ s11 - L g) + (eL)2/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rcise 3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acceler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erence book s22  is printed as s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ify which is corr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¶Bz/¶x * l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Quadr. 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 eff. field lengt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minimum 3 measurement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(g) and determine Emittance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moving viewer metho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can also be measured in a drift space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L1 s12  + L1 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2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s between view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 beam profile monitor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¾½¾¾¾½¾¾¾¾½¾®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1            L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iewer  V1         V2             V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3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(L1 + L2)s12  + (L1 + L2 )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here s11 = (xmax(V1))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practical aspec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o ellipse no e? Phase space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3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moving viewer meth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can also be measured in a drift space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L1 s12  + L1 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2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¾½¾¾¾½¾¾¾¾½¾®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1            L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r  V1         V2             V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3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(L1 + L2)s12  + (L1 + L2 )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s11 = (xmax(V1))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cuss practical asp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ellipse no e? Phase spac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aylor expans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(1st order)TRANSPORT Matrix Rn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,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e: Several notations are in use for 6 dim. ray vector &amp; matrix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mark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idplane symmetry of magn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ason for many matrix element =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pprox. for “well” design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gnets and paraxial beam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code calculates 2nd or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y including Tmno elements explicit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formalism is not suitab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o calculate higher order ( &gt;2 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   RAYTRA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nm    =      (n|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1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aylor expa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(1st order)TRANSPORT Matrix Rn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,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mark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idplane symmetry of mag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son for many matrix element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pprox. for “well” design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gnets and paraxial be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code calculates 2nd or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y including Tmno elements explici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formalism is not sui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o calculate higher order ( &gt;2 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nm    =      (n|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1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of solving the equation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Determine the TRANSPORT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cussion of Diagnostic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  &lt; 1  to  &gt; 1012 particles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ference with beam, notably at low energ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st can be very 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solu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iewers, scintillators, quartz with CCD rea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ts (movable) Faraday cups (current read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rps, electronic readout, semi- transpa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lm (permanent record, dosimetry, e.g. in Proton Therap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re chambers (Spectrome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int beam 1012 ® 103  (Cyclotrons: MSU, RCNP, iThemb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iscussion of Diagnostic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nge  &lt; 1  to  &gt; 1012 particles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int beam 1012 ® 103  (Cyclotrons: MSU, RCNP, iThemb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agnostics in focal plan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f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ypical in focal plane of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dern Spectromete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wo position sensi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tectors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rizontal:  X1,  X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ertical:      Y1,  Y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ast plastic scintillato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rticle identific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ime-of-Flig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asurement with IUCF K6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ectrometer illustrates from t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 bottom: focus near, down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ream and upstream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1 detector, respective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UCF, K600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gnostics in focal plan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UCF, K600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 beam aber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or X1     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rays in focal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ct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-shape in x-Q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xtupole T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-shape in x-Q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beam aber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 X1    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rays in focal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ct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-shape in x-Q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tupole T1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-shape in x-Q plo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ipulate charged particles (b+/-, ions, like p,d,a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&amp; electric analysis/ separation (e.g. St. Geor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io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e charged particles (b+/-, ions, like p,d,a, …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6*109  people have  - I hope so - happy lives with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enables physicists to explore the unk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hysicists using accelerators, beam lines and magne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their data) needs some knowledge of ion-optic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f the applications of ion-optics and related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wa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ver 6*109  people have  - I hope so - happy lives withou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physicists using accelerators, beam lines and magne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ory remark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ion for physicists  Focus on ion-optical definitions, and tools tha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re useful for physicist at the NSL &amp; future users of St. George recoil separat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ight optics can hardly be discussed without lenses &amp; optical instrument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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s requires knowledge of ion-optical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alogy between Light Optics and Ion-Optics is useful but limit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al &amp; magnet design tools needed to understand electro-magnet systems.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Ion-optics is not even 100 years old and (still) less intuitive than optics develop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nce several hundred yea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alile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lescope 1609 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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ptics in Siderus Nuncius 16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istorical remarks:   Rutherford, 1911, discovery of atomic nucl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ory rema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 for physicists  Focus on ion-optical definitions, and tools tha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useful for physicist at the NSL &amp; future users of St. George recoil separ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optics can hardly be discussed without lenses &amp; optical instrumen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s requires knowledge of ion-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ogy between Light Optics and Ion-Optics is useful but limi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 &amp; magnet design tools needed to understand electro-magnet systems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 1609 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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ical remarks:   Rutherford, 1911, discovery of atomic nucle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asic tools of the tra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eometry, drawing tools, CAD drafting program (e.g. AutoCa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lgebra (Matrix calculations), first order ion-optics (e.g. TRANSPOR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igher order ion-optics code to solve equation of motion, (e.g. COSY Infinity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IOS, RAYTRACE (historic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Electro-magnetic field program (solution of  Maxwell’s Equations)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finite element (FE) codes, 2d &amp; 3d: POISSON, TOSCA, MagN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roperties of incoming charged particles and design function of electro-magneti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acility, beam, reaction products (e.g. kinematic codes, charge distributions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eavy ions, energy losses in targe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ny other specialized programs, e.g for accelerator design (e.g. synchrotrons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yclotrons) not covered in this lecure serie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asic tools of the tra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teratur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ptics of Charged Particles, Hermann Wollnik, Academic Press, Orlando,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e Optics of Charged Particle Beams, David.C Carey, Harwood Academic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lishers, New York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ccelerator Physics, S.Y. Lee, World Scientific Publishing, Singapore, 199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, A Computer Program for Designing Charged Particle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Systems, K.L. Brown, D.C. Carey, Ch. Iselin, F. Rotacker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ort CERN 80-04, Geneva, 19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uter-Aided Design in Magnetics, D.A. Lowther, P. Silvester, Springer 1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tera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ons in static or quasi-static electro-magnetic field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orentz Forc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q = electric charg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 = magn. induc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 = electric fiel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v = veloc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momentum analysis  the magnetic force is preferred because the force is always perpendicular to B. Therefore v, p and E are constant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ce in magnetic dipole B = const: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p = q B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   = mv = momentu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= bending radiu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r = magn. rigid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ion acceleration electric forces are used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ipole field B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erpendicula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o paper pla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Radius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bject (size x0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General rule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caling of magnetic syste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linear region result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same ion-optic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Note: Dispersion dx/dp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sed in magnetic analysis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.g. Spectrometers, magn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eparators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+d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s in static or quasi-static electro-magnetic fiel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rentz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= electric ch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= magn. i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electr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velo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mentum analysis  the magnetic force is preferred because the force is always perpendicular to B. Therefore v, p and E are consta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in magnetic dipole B = const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p = q B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  = mv =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bending radi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 = magn. rigid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ion acceleration electric forces are us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pole field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pendic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paper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us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size x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ul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ing of magnetic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linear region resul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same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Dispersion dx/d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in magnetic analysi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Spectrometers, ma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or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+d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BEAM for mathematical formulation of ion-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am, what shapes i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its properti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parameters, the long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rays and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 elements, paraxial lin. appr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s in spectro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of diagnostic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forget: Atomic charge Q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articles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 of BEAM for mathematical formulation of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beam, what shapes it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o we know its propertie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arameters, the long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rays and distrib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 elements, paraxial lin. appro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s in spectro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stem of diagnostic instru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B1A-A0B1-45E4-92FD-00DEE9DE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522-7CB4-4DA1-AB54-8402714C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C81-B1F9-4C72-87E8-7641EA97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426-A23F-4E6E-9C3C-7A19BF57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157B-89D7-4AC2-930F-6291C408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4331-FDCD-4DCE-841B-015FC3E5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84CC-2D01-4C74-8CB0-B274455A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113C-0891-4F06-8668-A92DA6C7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F98A-C30E-41C8-996C-20F0B71F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E93F-9757-4BB2-B87C-FAB3FDFA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EFF9-5473-4744-939E-C96CFEED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45F-33A8-4339-B942-93EBD5FB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1AA6-31DA-4335-BD16-4011918F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2522-3715-43E2-AEDA-527AAD73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C1BB-345D-4374-BDDB-0CB3326B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71F2-46C1-4F43-9952-49367097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65E1-C8C3-4FE5-B95B-CA70EB44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BFF-EE88-403F-9205-C15CB6B7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8D7-5655-47FD-BD0B-B2846CD1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C71-B8BA-4C26-9DDB-90D132E4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1CE-9869-45AC-BBA2-B80DBE37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55C-2813-4D76-907A-535E123A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D6E-0F90-4825-BB43-BA480CEE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0A6-BA4C-44ED-B325-BFBAEEF4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E510-0DFC-4922-B221-CCE4E6B61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79DA-0662-44F9-9085-89CBB549E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920" y="22824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ectur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0" y="2819520"/>
            <a:ext cx="6705720" cy="457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0" y="33526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7/05, 2:00 pm: Ion-optical elements, properties &amp; 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-152280" y="3962520"/>
            <a:ext cx="693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14/05, 2:00 pm: Real World Ion-optical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2/05, 2:00 pm: Separator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-152280" y="5486400"/>
            <a:ext cx="9448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9/05, 2:00 pm: Demonstration of Codes (TRANSPORT, COSY, MagNe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86200" y="759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RA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7" name="Picture 3" descr="Beam_parametrization_d"/>
          <p:cNvPicPr/>
          <p:nvPr/>
        </p:nvPicPr>
        <p:blipFill>
          <a:blip r:embed="rId1"/>
          <a:stretch/>
        </p:blipFill>
        <p:spPr>
          <a:xfrm>
            <a:off x="3429000" y="914400"/>
            <a:ext cx="5791320" cy="2441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640120" y="1295280"/>
            <a:ext cx="131148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-opti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-3600" y="0"/>
            <a:ext cx="339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 TRANSPOR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-5760" y="3733920"/>
            <a:ext cx="5574240" cy="2396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: COSY Infin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, b, l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ed for complex ion-optical systems including sever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ge st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m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ties (e.g. Wien Fil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order correctio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019920" y="3429000"/>
            <a:ext cx="2819160" cy="249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K/K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m/m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q/q = rel. charge 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“central ray” proper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7200" y="1676520"/>
            <a:ext cx="2541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495320" y="198108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ral r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69640" y="6338880"/>
            <a:ext cx="77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81480" y="1066680"/>
            <a:ext cx="3810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ordinate System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62520" y="1519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Picture 1027" descr="Backup_of_Tailor_matrix_b"/>
          <p:cNvPicPr/>
          <p:nvPr/>
        </p:nvPicPr>
        <p:blipFill>
          <a:blip r:embed="rId1"/>
          <a:stretch/>
        </p:blipFill>
        <p:spPr>
          <a:xfrm>
            <a:off x="304920" y="220968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28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29"/>
          <p:cNvSpPr/>
          <p:nvPr/>
        </p:nvSpPr>
        <p:spPr>
          <a:xfrm>
            <a:off x="533520" y="5715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30"/>
          <p:cNvSpPr/>
          <p:nvPr/>
        </p:nvSpPr>
        <p:spPr>
          <a:xfrm rot="16200000">
            <a:off x="7491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31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32"/>
          <p:cNvSpPr/>
          <p:nvPr/>
        </p:nvSpPr>
        <p:spPr>
          <a:xfrm>
            <a:off x="1833480" y="609480"/>
            <a:ext cx="127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33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34"/>
          <p:cNvSpPr/>
          <p:nvPr/>
        </p:nvSpPr>
        <p:spPr>
          <a:xfrm>
            <a:off x="5181480" y="5257800"/>
            <a:ext cx="2819520" cy="146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We are not building “random” optical ele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matrix elements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of symmetries, e.g. mid-plane symme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036"/>
          <p:cNvSpPr/>
          <p:nvPr/>
        </p:nvSpPr>
        <p:spPr>
          <a:xfrm>
            <a:off x="43434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RANSPORT matrices of a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rift and a Quadrupol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4" name="Picture 3" descr="Matrix_drift_quad"/>
          <p:cNvPicPr/>
          <p:nvPr/>
        </p:nvPicPr>
        <p:blipFill>
          <a:blip r:embed="rId1"/>
          <a:stretch/>
        </p:blipFill>
        <p:spPr>
          <a:xfrm>
            <a:off x="-152280" y="6480"/>
            <a:ext cx="4344840" cy="6851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257000" y="4392720"/>
            <a:ext cx="414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24280" y="-36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ough a system of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eam line eleme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Text Box 1028"/>
          <p:cNvSpPr/>
          <p:nvPr/>
        </p:nvSpPr>
        <p:spPr>
          <a:xfrm>
            <a:off x="3048120" y="35812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029"/>
          <p:cNvSpPr/>
          <p:nvPr/>
        </p:nvSpPr>
        <p:spPr>
          <a:xfrm>
            <a:off x="533520" y="37339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030"/>
          <p:cNvSpPr/>
          <p:nvPr/>
        </p:nvSpPr>
        <p:spPr>
          <a:xfrm rot="16200000">
            <a:off x="825120" y="3287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031"/>
          <p:cNvSpPr/>
          <p:nvPr/>
        </p:nvSpPr>
        <p:spPr>
          <a:xfrm rot="16200000">
            <a:off x="3416040" y="313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032"/>
          <p:cNvSpPr/>
          <p:nvPr/>
        </p:nvSpPr>
        <p:spPr>
          <a:xfrm>
            <a:off x="2362320" y="1066680"/>
            <a:ext cx="17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033"/>
          <p:cNvSpPr/>
          <p:nvPr/>
        </p:nvSpPr>
        <p:spPr>
          <a:xfrm rot="5400000">
            <a:off x="2956320" y="222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035"/>
          <p:cNvSpPr/>
          <p:nvPr/>
        </p:nvSpPr>
        <p:spPr>
          <a:xfrm>
            <a:off x="883800" y="2666880"/>
            <a:ext cx="2846880" cy="482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36"/>
          <p:cNvSpPr/>
          <p:nvPr/>
        </p:nvSpPr>
        <p:spPr>
          <a:xfrm>
            <a:off x="974880" y="4689360"/>
            <a:ext cx="4566960" cy="899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system is represen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system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411480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041"/>
          <p:cNvSpPr/>
          <p:nvPr/>
        </p:nvSpPr>
        <p:spPr>
          <a:xfrm>
            <a:off x="6095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76920" y="228600"/>
            <a:ext cx="403848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Geometrical interpretation of some TRANSPORT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atrix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40640" y="1714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-152280" y="0"/>
            <a:ext cx="488304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3124080" y="5410080"/>
            <a:ext cx="6019920" cy="1312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4876920" y="3429000"/>
            <a:ext cx="312408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dx/d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physical m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(x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       RAY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TRANS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857280" y="1828800"/>
            <a:ext cx="2078280" cy="6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60948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BEA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723640" y="14940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llipse Area 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716440" y="2209680"/>
            <a:ext cx="27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f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715000" y="312408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52280" y="5410080"/>
            <a:ext cx="7539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tten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94480" y="3962520"/>
            <a:ext cx="702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arning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671560" y="320040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5486400" y="1295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6229800" y="13716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6172200" y="129528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477480" y="7621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itt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84582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quivalen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of Transport of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ONE Ray 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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llips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8600" y="51055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efining the 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Matrix representing a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0"/>
          <p:cNvSpPr/>
          <p:nvPr/>
        </p:nvSpPr>
        <p:spPr>
          <a:xfrm>
            <a:off x="73080" y="5943600"/>
            <a:ext cx="49658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2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914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 2-dimensional case ( x,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961240" y="225360"/>
            <a:ext cx="23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lipse Area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46480" y="685800"/>
            <a:ext cx="302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43600" y="1587600"/>
            <a:ext cx="32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95240" y="350532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9960" y="4191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87520" y="403848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2131920" y="40878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mmetric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2520" y="51814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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1343880" y="5029200"/>
            <a:ext cx="1957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048480" y="52545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1139400" y="6095880"/>
            <a:ext cx="12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1971360" y="5943600"/>
            <a:ext cx="1437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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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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76320" y="5791320"/>
            <a:ext cx="1206360" cy="73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rcise 1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3048120" y="609588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nity Matri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6018840" y="30481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716800" y="388620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7407000" y="388620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(x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219000" y="373392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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481720" y="4572000"/>
            <a:ext cx="29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lipse in Matrix nota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059080" y="5738760"/>
            <a:ext cx="4146840" cy="102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rcise 2: Show that Matrix not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equivalent to known Ellipse equation: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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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830592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886200" y="3965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urant-Snyder Nota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95436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59120" y="259092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581040" y="723960"/>
            <a:ext cx="820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notation of th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atrix Elements, that are used in the Accelerator Lit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rix and the betatron amplitue function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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Courant Snyder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4022280" y="2590920"/>
            <a:ext cx="2052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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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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3317040" y="27432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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Lec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6720" y="3657600"/>
            <a:ext cx="647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2895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– 3:3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ansport of 6-dim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trix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51480" y="838080"/>
            <a:ext cx="84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, 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152280" y="1295280"/>
            <a:ext cx="89917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y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from location 0 is transported by a 6 x 6 Matrix R to location 1 by:       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752480"/>
            <a:ext cx="87631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3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:             R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-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…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152280" y="2286000"/>
            <a:ext cx="8534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lipsoid in Matrix notation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generized to e.g. 6-dim. using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Matrix:           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152280" y="2895480"/>
            <a:ext cx="8305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serting Unity Matrix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= R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equ.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it follows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-1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)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 which we derive           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 = 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85345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84582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84582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228600" y="3809880"/>
            <a:ext cx="8305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quation of the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new ellipsoid after transforma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ecom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ere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 R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83059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84582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152280" y="5029200"/>
            <a:ext cx="8839440" cy="1678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Knowing the TRANSPORT matrix R that transports one ray through an ion-optical syste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7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now also transport the phase space ellipse describing the initial bea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10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ansport of rays and phase ellipse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in a Drift and focusing Quadrupole, Len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3" name="Picture 3" descr="Ellipse_ray-a"/>
          <p:cNvPicPr/>
          <p:nvPr/>
        </p:nvPicPr>
        <p:blipFill>
          <a:blip r:embed="rId1"/>
          <a:stretch/>
        </p:blipFill>
        <p:spPr>
          <a:xfrm>
            <a:off x="-152280" y="1541520"/>
            <a:ext cx="6095880" cy="5316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Ellipse_ray_b"/>
          <p:cNvPicPr/>
          <p:nvPr/>
        </p:nvPicPr>
        <p:blipFill>
          <a:blip r:embed="rId2"/>
          <a:stretch/>
        </p:blipFill>
        <p:spPr>
          <a:xfrm>
            <a:off x="5599080" y="1523880"/>
            <a:ext cx="3544920" cy="1447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Ellipse_ray_c"/>
          <p:cNvPicPr/>
          <p:nvPr/>
        </p:nvPicPr>
        <p:blipFill>
          <a:blip r:embed="rId3"/>
          <a:stretch/>
        </p:blipFill>
        <p:spPr>
          <a:xfrm>
            <a:off x="5943600" y="2971800"/>
            <a:ext cx="3200400" cy="190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Ellipse_ray_d"/>
          <p:cNvPicPr/>
          <p:nvPr/>
        </p:nvPicPr>
        <p:blipFill>
          <a:blip r:embed="rId4"/>
          <a:stretch/>
        </p:blipFill>
        <p:spPr>
          <a:xfrm>
            <a:off x="594360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914400" y="3657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648320" y="3733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2136240" y="6324480"/>
            <a:ext cx="365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tching of emittance and accep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143360" y="358128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5029560" y="365760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5564520" y="28195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82680" y="350532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4120" y="152280"/>
            <a:ext cx="3504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crease of Emittance </a:t>
            </a:r>
            <a:r>
              <a:rPr b="0" lang="en-US" sz="2400" spc="-1" strike="noStrike">
                <a:solidFill>
                  <a:srgbClr val="ffcc66"/>
                </a:solidFill>
                <a:latin typeface="UniversalMath1 BT"/>
                <a:ea typeface="UniversalMath1 BT"/>
              </a:rPr>
              <a:t>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ue to degrad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6" name="Picture 3" descr="Ellipse_increase"/>
          <p:cNvPicPr/>
          <p:nvPr/>
        </p:nvPicPr>
        <p:blipFill>
          <a:blip r:embed="rId1"/>
          <a:stretch/>
        </p:blipFill>
        <p:spPr>
          <a:xfrm>
            <a:off x="0" y="1143000"/>
            <a:ext cx="5483160" cy="5867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"/>
          <p:cNvSpPr/>
          <p:nvPr/>
        </p:nvSpPr>
        <p:spPr>
          <a:xfrm>
            <a:off x="1678320" y="1295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5507640" y="2286000"/>
            <a:ext cx="36342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degrader / target increases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8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e to multiple scatter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mittance growth is minimal w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egrader in positioned in a foc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 can be seen from the schema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ing of the horizontal x-Th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ase spac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663880" y="114300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tuning a quadrupol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2" name="Text Box 1027"/>
          <p:cNvSpPr/>
          <p:nvPr/>
        </p:nvSpPr>
        <p:spPr>
          <a:xfrm>
            <a:off x="687960" y="1143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e, p. 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028"/>
          <p:cNvSpPr/>
          <p:nvPr/>
        </p:nvSpPr>
        <p:spPr>
          <a:xfrm>
            <a:off x="5943600" y="1143000"/>
            <a:ext cx="3200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an impor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1029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-152280" y="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30"/>
          <p:cNvSpPr/>
          <p:nvPr/>
        </p:nvSpPr>
        <p:spPr>
          <a:xfrm>
            <a:off x="1216440" y="3124080"/>
            <a:ext cx="543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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g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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031"/>
          <p:cNvSpPr/>
          <p:nvPr/>
        </p:nvSpPr>
        <p:spPr>
          <a:xfrm>
            <a:off x="485640" y="3200400"/>
            <a:ext cx="852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032"/>
          <p:cNvSpPr/>
          <p:nvPr/>
        </p:nvSpPr>
        <p:spPr>
          <a:xfrm>
            <a:off x="6248520" y="4343400"/>
            <a:ext cx="2743200" cy="2299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3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accel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boo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inted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y which is cor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033"/>
          <p:cNvSpPr/>
          <p:nvPr/>
        </p:nvSpPr>
        <p:spPr>
          <a:xfrm>
            <a:off x="1143000" y="3809880"/>
            <a:ext cx="20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z/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x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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034"/>
          <p:cNvSpPr/>
          <p:nvPr/>
        </p:nvSpPr>
        <p:spPr>
          <a:xfrm>
            <a:off x="382320" y="39625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035"/>
          <p:cNvSpPr/>
          <p:nvPr/>
        </p:nvSpPr>
        <p:spPr>
          <a:xfrm>
            <a:off x="3042720" y="3886200"/>
            <a:ext cx="246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dr.  field str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eff. field leng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036"/>
          <p:cNvSpPr/>
          <p:nvPr/>
        </p:nvSpPr>
        <p:spPr>
          <a:xfrm>
            <a:off x="453960" y="4800600"/>
            <a:ext cx="48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037"/>
          <p:cNvSpPr/>
          <p:nvPr/>
        </p:nvSpPr>
        <p:spPr>
          <a:xfrm>
            <a:off x="470520" y="5715000"/>
            <a:ext cx="4515120" cy="86076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minimum 3 measurement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and determine Emit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038"/>
          <p:cNvSpPr/>
          <p:nvPr/>
        </p:nvSpPr>
        <p:spPr>
          <a:xfrm>
            <a:off x="64008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039"/>
          <p:cNvSpPr/>
          <p:nvPr/>
        </p:nvSpPr>
        <p:spPr>
          <a:xfrm>
            <a:off x="55627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moving viewer metho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Text Box 1028"/>
          <p:cNvSpPr/>
          <p:nvPr/>
        </p:nvSpPr>
        <p:spPr>
          <a:xfrm>
            <a:off x="6248520" y="1143000"/>
            <a:ext cx="27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also be measured in a drift space as shown below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030"/>
          <p:cNvSpPr/>
          <p:nvPr/>
        </p:nvSpPr>
        <p:spPr>
          <a:xfrm>
            <a:off x="1649520" y="3429000"/>
            <a:ext cx="380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031"/>
          <p:cNvSpPr/>
          <p:nvPr/>
        </p:nvSpPr>
        <p:spPr>
          <a:xfrm>
            <a:off x="264600" y="350532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036"/>
          <p:cNvSpPr/>
          <p:nvPr/>
        </p:nvSpPr>
        <p:spPr>
          <a:xfrm>
            <a:off x="302760" y="2133720"/>
            <a:ext cx="39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038"/>
          <p:cNvSpPr/>
          <p:nvPr/>
        </p:nvSpPr>
        <p:spPr>
          <a:xfrm>
            <a:off x="685800" y="1066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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039"/>
          <p:cNvSpPr/>
          <p:nvPr/>
        </p:nvSpPr>
        <p:spPr>
          <a:xfrm>
            <a:off x="1614960" y="1523880"/>
            <a:ext cx="172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040"/>
          <p:cNvSpPr/>
          <p:nvPr/>
        </p:nvSpPr>
        <p:spPr>
          <a:xfrm>
            <a:off x="155520" y="53352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1         V2             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041"/>
          <p:cNvSpPr/>
          <p:nvPr/>
        </p:nvSpPr>
        <p:spPr>
          <a:xfrm>
            <a:off x="61200" y="1104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042"/>
          <p:cNvSpPr/>
          <p:nvPr/>
        </p:nvSpPr>
        <p:spPr>
          <a:xfrm>
            <a:off x="264600" y="426708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3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043"/>
          <p:cNvSpPr/>
          <p:nvPr/>
        </p:nvSpPr>
        <p:spPr>
          <a:xfrm>
            <a:off x="1981080" y="4267080"/>
            <a:ext cx="5029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045"/>
          <p:cNvSpPr/>
          <p:nvPr/>
        </p:nvSpPr>
        <p:spPr>
          <a:xfrm>
            <a:off x="426240" y="4946760"/>
            <a:ext cx="2963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046"/>
          <p:cNvSpPr/>
          <p:nvPr/>
        </p:nvSpPr>
        <p:spPr>
          <a:xfrm>
            <a:off x="2057400" y="5667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047"/>
          <p:cNvSpPr/>
          <p:nvPr/>
        </p:nvSpPr>
        <p:spPr>
          <a:xfrm>
            <a:off x="2743200" y="565452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048"/>
          <p:cNvSpPr/>
          <p:nvPr/>
        </p:nvSpPr>
        <p:spPr>
          <a:xfrm>
            <a:off x="2877120" y="57150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049"/>
          <p:cNvSpPr/>
          <p:nvPr/>
        </p:nvSpPr>
        <p:spPr>
          <a:xfrm>
            <a:off x="438840" y="583236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50"/>
          <p:cNvSpPr/>
          <p:nvPr/>
        </p:nvSpPr>
        <p:spPr>
          <a:xfrm>
            <a:off x="5347080" y="5715000"/>
            <a:ext cx="2896560" cy="642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practical asp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llipse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Phase spac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51"/>
          <p:cNvSpPr/>
          <p:nvPr/>
        </p:nvSpPr>
        <p:spPr>
          <a:xfrm>
            <a:off x="58672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2"/>
          <p:cNvSpPr/>
          <p:nvPr/>
        </p:nvSpPr>
        <p:spPr>
          <a:xfrm>
            <a:off x="6858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276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ylor expans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27" name="Picture 1027" descr="Tailor_matrix_a"/>
          <p:cNvPicPr/>
          <p:nvPr/>
        </p:nvPicPr>
        <p:blipFill>
          <a:blip r:embed="rId1"/>
          <a:stretch/>
        </p:blipFill>
        <p:spPr>
          <a:xfrm>
            <a:off x="0" y="0"/>
            <a:ext cx="5413320" cy="31370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28" descr="Backup_of_Tailor_matrix_b"/>
          <p:cNvPicPr/>
          <p:nvPr/>
        </p:nvPicPr>
        <p:blipFill>
          <a:blip r:embed="rId2"/>
          <a:stretch/>
        </p:blipFill>
        <p:spPr>
          <a:xfrm>
            <a:off x="4343400" y="382896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029"/>
          <p:cNvSpPr/>
          <p:nvPr/>
        </p:nvSpPr>
        <p:spPr>
          <a:xfrm>
            <a:off x="4524480" y="3276720"/>
            <a:ext cx="44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(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)TRANSPORT Matrix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31"/>
          <p:cNvSpPr/>
          <p:nvPr/>
        </p:nvSpPr>
        <p:spPr>
          <a:xfrm>
            <a:off x="4479840" y="436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ypoUpright BT"/>
                <a:ea typeface="MS Gothic"/>
              </a:rPr>
              <a:t>,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032"/>
          <p:cNvSpPr/>
          <p:nvPr/>
        </p:nvSpPr>
        <p:spPr>
          <a:xfrm>
            <a:off x="5410080" y="762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030"/>
          <p:cNvSpPr/>
          <p:nvPr/>
        </p:nvSpPr>
        <p:spPr>
          <a:xfrm>
            <a:off x="22320" y="3962520"/>
            <a:ext cx="428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ark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plane symmetry of magn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for many matrix element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approx. for “well” design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nets and paraxial bea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code calculates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including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ments explicit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formalism is not sui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lculate higher order ( &gt;2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033"/>
          <p:cNvSpPr/>
          <p:nvPr/>
        </p:nvSpPr>
        <p:spPr>
          <a:xfrm>
            <a:off x="6325560" y="1905120"/>
            <a:ext cx="265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034"/>
          <p:cNvSpPr/>
          <p:nvPr/>
        </p:nvSpPr>
        <p:spPr>
          <a:xfrm>
            <a:off x="6789960" y="1523880"/>
            <a:ext cx="1869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Times New Roman"/>
              </a:rPr>
              <a:t>n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=      (n|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035"/>
          <p:cNvSpPr/>
          <p:nvPr/>
        </p:nvSpPr>
        <p:spPr>
          <a:xfrm>
            <a:off x="45720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olving the equation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f Mo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Picture 6" descr="Beam_parametrization_e"/>
          <p:cNvPicPr/>
          <p:nvPr/>
        </p:nvPicPr>
        <p:blipFill>
          <a:blip r:embed="rId1"/>
          <a:stretch/>
        </p:blipFill>
        <p:spPr>
          <a:xfrm>
            <a:off x="152280" y="685800"/>
            <a:ext cx="31006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304920" y="2438280"/>
            <a:ext cx="5105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342900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52320" y="151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iscussion of Diagnostic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28600" y="91440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nge  &lt; 1  to  &gt;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s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281520" y="3124080"/>
            <a:ext cx="5931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int beam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yclotrons: MSU, RCNP, iThemb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638320" y="151920"/>
            <a:ext cx="3505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iagnostics in focal plane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f spectromet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8" name="Picture 3" descr="K600_focus"/>
          <p:cNvPicPr/>
          <p:nvPr/>
        </p:nvPicPr>
        <p:blipFill>
          <a:blip r:embed="rId1"/>
          <a:stretch/>
        </p:blipFill>
        <p:spPr>
          <a:xfrm>
            <a:off x="0" y="0"/>
            <a:ext cx="538632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5943600" y="1371600"/>
            <a:ext cx="2819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5560200" y="5105520"/>
            <a:ext cx="32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976840" y="380880"/>
            <a:ext cx="23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UCF, K600 Spectro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971800" y="151920"/>
            <a:ext cx="60199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igher order beam aberration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4" name="Picture 3" descr="K600_higher_order"/>
          <p:cNvPicPr/>
          <p:nvPr/>
        </p:nvPicPr>
        <p:blipFill>
          <a:blip r:embed="rId1"/>
          <a:stretch/>
        </p:blipFill>
        <p:spPr>
          <a:xfrm>
            <a:off x="0" y="1689120"/>
            <a:ext cx="6138720" cy="5168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Oct_aberr"/>
          <p:cNvPicPr/>
          <p:nvPr/>
        </p:nvPicPr>
        <p:blipFill>
          <a:blip r:embed="rId2"/>
          <a:stretch/>
        </p:blipFill>
        <p:spPr>
          <a:xfrm>
            <a:off x="6172200" y="1676520"/>
            <a:ext cx="2816280" cy="11919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6172920" y="289548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 X1    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6404040" y="11430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rays in focal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6249960" y="1752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617400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3659400" y="4038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2897280" y="457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3735360" y="5105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527840" y="83808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Octup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6248520" y="5334120"/>
            <a:ext cx="220968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Exampl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tupole T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Arial"/>
              </a:rPr>
              <a:t>1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6249960" y="2514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3505320" y="3733920"/>
            <a:ext cx="70164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2133720" y="3809880"/>
            <a:ext cx="68580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Text Box 1027"/>
          <p:cNvSpPr/>
          <p:nvPr/>
        </p:nvSpPr>
        <p:spPr>
          <a:xfrm>
            <a:off x="228600" y="3962520"/>
            <a:ext cx="73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e charged particles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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ike p,d,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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95680" y="22824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Who needs ion-optic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nyway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43280" y="3276720"/>
            <a:ext cx="72687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6*10</a:t>
            </a:r>
            <a:r>
              <a:rPr b="1" lang="en-US" sz="2000" spc="-1" strike="noStrike" baseline="30000">
                <a:solidFill>
                  <a:srgbClr val="00ff00"/>
                </a:solidFill>
                <a:latin typeface="Times New Roman"/>
              </a:rPr>
              <a:t>9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peop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ve  - I hope so - happy lives withou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group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ccelerator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e using it to build mach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Many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using accelerators, beam lines and magnet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lecture series is an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the last group and I will 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roductory remar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2280" y="533520"/>
            <a:ext cx="8839440" cy="31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roduction for physicist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cus on ion-optical definitions, and tool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useful fo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physici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t the NSL &amp; future users of St. George recoil separa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 optics can hardly be discussed withou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lenses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 optical instrumen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on-optics requires knowledge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elem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nalog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etween Light Optics and Ion-Optics is useful but limi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&amp; magnet desig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ols needed to understand electro-magnet systems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76320" y="4419720"/>
          <a:ext cx="365760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419720"/>
                    <a:ext cx="36576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6915240" y="3733920"/>
            <a:ext cx="2228760" cy="3124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3654720" y="4800600"/>
            <a:ext cx="337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lescope 1609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45440" y="3886200"/>
            <a:ext cx="65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Historical remark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Rutherford, 1911, discovery of atomic nucle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ic tools of the trad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066680"/>
            <a:ext cx="8550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Literature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Text Box 1027"/>
          <p:cNvSpPr/>
          <p:nvPr/>
        </p:nvSpPr>
        <p:spPr>
          <a:xfrm>
            <a:off x="293400" y="1066680"/>
            <a:ext cx="864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in static or quasi-static electro-magnetic field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380880" y="1143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rentz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Object 1024"/>
          <p:cNvGraphicFramePr/>
          <p:nvPr/>
        </p:nvGraphicFramePr>
        <p:xfrm>
          <a:off x="2286000" y="990720"/>
          <a:ext cx="317484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024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2286000" y="990720"/>
                    <a:ext cx="317484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6"/>
          <p:cNvSpPr/>
          <p:nvPr/>
        </p:nvSpPr>
        <p:spPr>
          <a:xfrm>
            <a:off x="6553080" y="838080"/>
            <a:ext cx="2438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= electric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gn. in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lectric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elo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85800" y="2666880"/>
            <a:ext cx="7486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mentum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magnetic force is preferred because the force is always perpendicular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refore v, p and E are consta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707040" y="335268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in magnetic dipo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ns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q B </a:t>
            </a:r>
            <a:r>
              <a:rPr b="0" lang="en-US" sz="2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400800" y="3352680"/>
            <a:ext cx="2421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mv = moment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UniversalMath1 BT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ending radi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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agn. rigid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708440" y="362736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89400" y="2209680"/>
            <a:ext cx="48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 elect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ces are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447920" y="4876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pole field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aper pla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276720" y="5257800"/>
            <a:ext cx="9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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89520" y="6324480"/>
            <a:ext cx="1544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(siz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24"/>
          <p:cNvGrpSpPr/>
          <p:nvPr/>
        </p:nvGrpSpPr>
        <p:grpSpPr>
          <a:xfrm>
            <a:off x="-609480" y="2706840"/>
            <a:ext cx="7543800" cy="4151160"/>
            <a:chOff x="-609480" y="2706840"/>
            <a:chExt cx="7543800" cy="4151160"/>
          </a:xfrm>
        </p:grpSpPr>
        <p:pic>
          <p:nvPicPr>
            <p:cNvPr id="141" name="Picture 22" descr="B_rho_concept"/>
            <p:cNvPicPr/>
            <p:nvPr/>
          </p:nvPicPr>
          <p:blipFill>
            <a:blip r:embed="rId3"/>
            <a:stretch/>
          </p:blipFill>
          <p:spPr>
            <a:xfrm>
              <a:off x="-609480" y="2706840"/>
              <a:ext cx="754380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6"/>
            <p:cNvSpPr/>
            <p:nvPr/>
          </p:nvSpPr>
          <p:spPr>
            <a:xfrm>
              <a:off x="746280" y="5165640"/>
              <a:ext cx="549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UniversalMath1 BT"/>
                  <a:ea typeface="UniversalMath1 BT"/>
                </a:rPr>
                <a:t>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Text Box 17"/>
          <p:cNvSpPr/>
          <p:nvPr/>
        </p:nvSpPr>
        <p:spPr>
          <a:xfrm>
            <a:off x="6172920" y="4419720"/>
            <a:ext cx="2655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ru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ing of magnetic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linear region resul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ion-op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576680" y="5638680"/>
            <a:ext cx="269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/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etic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pectrometers, mag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or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25924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72644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4588200" y="4343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</a:t>
            </a: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715000" y="1182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 of BEAM for mathematical formulation of ion-optic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83040" y="91440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beam, what shapes i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we know its properties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80880" y="2133720"/>
            <a:ext cx="40388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parameters, the long l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rays and distrib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line elements, paraxial lin. approx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 orders in spectrome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of diagnostic instr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6" descr="beam_parametrization_c"/>
          <p:cNvPicPr/>
          <p:nvPr/>
        </p:nvPicPr>
        <p:blipFill>
          <a:blip r:embed="rId1"/>
          <a:stretch/>
        </p:blipFill>
        <p:spPr>
          <a:xfrm>
            <a:off x="304920" y="4038480"/>
            <a:ext cx="4190760" cy="1281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4"/>
          <p:cNvSpPr/>
          <p:nvPr/>
        </p:nvSpPr>
        <p:spPr>
          <a:xfrm>
            <a:off x="379080" y="579132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12:40Z</dcterms:created>
  <dc:creator>Stefan G. Berg</dc:creator>
  <dc:description/>
  <dc:language>en-US</dc:language>
  <cp:lastModifiedBy>LEGION</cp:lastModifiedBy>
  <dcterms:modified xsi:type="dcterms:W3CDTF">2018-03-12T09:16:38Z</dcterms:modified>
  <cp:revision>100</cp:revision>
  <dc:subject/>
  <dc:title>Ion-Optics</dc:title>
</cp:coreProperties>
</file>